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2334-210E-4E24-82CF-0DB5A4126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2348-F31D-4325-9BFF-EBB1B0F4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8616-0BAE-4961-900E-266844682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0DC1-509B-4165-996E-C193AF2F1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066B-5C21-478D-BF5A-F6556A69F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0837-7619-4F79-95D2-31F65D31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5D2E-8F7D-4085-8CC9-2452D520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4EE6-97F2-44A8-BE80-A5F39E45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CABC-3230-45C9-AF3B-86FB82F3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CE7D-5CC6-4AA9-9440-1128BAD9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2099-E35C-4667-8F9C-38DF19B5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0467-722B-4A44-AFB2-6B83D8F6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B662-BB7B-4542-A2B0-F1F36891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F51B-CF02-47C4-A108-34840DFC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7C14-D12B-4E52-9CB3-5A8F7B6E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C69D-EA84-46BD-AD6A-340BD2C97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781A-1061-4005-8ABB-FBF01A76B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CD16-7605-4A0D-AFEA-47D89A79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B2ED-3503-4981-BCEA-030543FB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C10C-A2AD-49DA-97B8-9920CCCE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8640-5ED9-438C-B3F8-1BB54EC7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426A-AE4C-4CC2-B279-8340BBDE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1E69-B5DD-43B8-8480-6416EBBB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ED16-45C2-4607-AF48-EEE8F3DE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F5CD-89AD-4C2E-80FF-82DE010B3B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360" y="216036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SYMETRI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9D0E-CEB5-414B-A3F1-6B6D84DF8E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06640" y="1898640"/>
            <a:ext cx="778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SYMETRIA W UKŁADZIE WSPÓŁRZĘDNY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SYMETRIA WZGLĘDEM OSI O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06640" y="5406840"/>
            <a:ext cx="73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 symetrii osiowej względem osi OX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spółrzędna x pozostaje bez zmian natomiast współrzędna y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jest liczbą przeciwną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962000" y="1133640"/>
          <a:ext cx="5419800" cy="40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2000" y="1133640"/>
                    <a:ext cx="5419800" cy="40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SYMETRIA WZGLĘDEM OSI O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06640" y="5406840"/>
            <a:ext cx="73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 symetrii osiowej względem osi OY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spółrzędna x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jest liczbą przeciwną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natomiast współrzędna y pozostaje bez zmian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879560" y="1089000"/>
          <a:ext cx="5797440" cy="43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1089000"/>
                    <a:ext cx="5797440" cy="43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SYMETRIA WZGLĘDEM POCZĄTKU UKŁADU WSPÓŁRZĘDNY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06640" y="5406840"/>
            <a:ext cx="73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 symetrii względem punktu (0,0)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spółrzędna x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jest liczbą przeciwną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oraz współrzędna y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jest liczbą przeciwną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014560" y="1179360"/>
          <a:ext cx="561816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4560" y="1179360"/>
                    <a:ext cx="561816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06640" y="1447920"/>
            <a:ext cx="7061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ane są punkty: A(3,-2), B(-1,0) i C(-4,-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Znajdź współrzędne punktów A’, B’ i C’ w symetri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) Względem osi OX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b) Względem osi O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) Względem punktu (0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ykonaj pomocnicze rysun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25T00:12:30Z</dcterms:modified>
  <cp:revision>127</cp:revision>
  <dc:subject/>
  <dc:title>Slajd 1</dc:title>
</cp:coreProperties>
</file>